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68839"/>
        <c:axId val="98839597"/>
      </c:barChart>
      <c:catAx>
        <c:axId val="7396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39597"/>
        <c:crosses val="autoZero"/>
        <c:auto val="1"/>
        <c:lblAlgn val="ctr"/>
        <c:lblOffset val="100"/>
        <c:noMultiLvlLbl val="0"/>
      </c:catAx>
      <c:valAx>
        <c:axId val="98839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6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BC6-9221-4E6A-9DB8-696CEB94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63D-45B5-40EB-B82A-B57BD454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21A-B4BC-4114-9E44-F2E469EE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C5B-7B00-490A-9542-40FCD7A9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23F-D3DE-4E04-8D12-7B37B306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8A1-6D88-4DB4-BF9E-66970D43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B15-7F06-4F96-A52B-01EF6511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BC4-ABAD-4A58-ACB9-773F619A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E05-431B-4CD5-8F91-0B15E129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734-B1BE-45F7-AA3C-5BB18E85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093-85FE-4631-8BB2-669D659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7069-6670-4EDA-8019-806A99D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BB6E-BFEB-4BBA-8D06-E4C4308517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