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26056"/>
        <c:axId val="9134079"/>
      </c:barChart>
      <c:catAx>
        <c:axId val="28926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4079"/>
        <c:crosses val="autoZero"/>
        <c:auto val="1"/>
        <c:lblAlgn val="ctr"/>
        <c:lblOffset val="100"/>
        <c:noMultiLvlLbl val="0"/>
      </c:catAx>
      <c:valAx>
        <c:axId val="9134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26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8BB-932B-4D51-8F5B-43573330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2B8-5B33-4208-B48A-A2AA238B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57D-BD58-450B-9327-6D210A8E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4109-58EE-4A43-90D4-3A184F5E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BC9-16D7-4E9D-A47A-B6188929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A9D3-24B2-4600-A2BB-274018AB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A8E-17A7-43E8-9FCD-FA1E1854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F78-514F-4F78-9A1B-C4646CE3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0FB-4D21-42BE-8DBA-73B0C4AF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4EC-C984-4EC2-B74B-F3D9AE7F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D97-DDDF-49C9-ADBE-AD04D224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198-D76F-4348-BE8A-A5B8CF89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E5BA4-CC6E-416B-B7B4-54289A76CE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