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85691"/>
        <c:axId val="16060244"/>
      </c:barChart>
      <c:catAx>
        <c:axId val="85985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60244"/>
        <c:crosses val="autoZero"/>
        <c:auto val="1"/>
        <c:lblAlgn val="ctr"/>
        <c:lblOffset val="100"/>
        <c:noMultiLvlLbl val="0"/>
      </c:catAx>
      <c:valAx>
        <c:axId val="16060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85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720-AE95-4ABF-965D-50269D5E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CE3-6BDF-4DD7-9E35-C928D491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F9E-C150-45FF-A6FB-6F1075F6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24F-BCF8-4857-B18B-39F1DF25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496-05E8-4B26-9A3C-28D3A2E1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5B2-3AF6-4AC4-AB54-004BEFFA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8AC-4A2C-4D03-AD41-D5BF7E1E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6F2-96BE-4F8D-B378-B6EC94D3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5B8-5910-4D6A-86AD-BFD0A89A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B5D-C98D-45A9-ADEB-AD5BF23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38BD-A248-4554-925A-BAF97470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651-548B-4836-A61F-4E4596BD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B40DE-3015-45C4-81BE-98138F4F3C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