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67407"/>
        <c:axId val="65425084"/>
      </c:barChart>
      <c:catAx>
        <c:axId val="23867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25084"/>
        <c:crosses val="autoZero"/>
        <c:auto val="1"/>
        <c:lblAlgn val="ctr"/>
        <c:lblOffset val="100"/>
        <c:noMultiLvlLbl val="0"/>
      </c:catAx>
      <c:valAx>
        <c:axId val="65425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67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379-FADE-4284-8B83-FF8A8063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526D-9B39-4BDD-9C11-75454014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F7F-E529-4E1A-9B74-5A30F502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6B1-ED61-4208-BEC5-F5D7AA1D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61E-B83C-49F1-A767-273F6ECB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813-690A-4991-A61F-68ADB7CB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5F2-CE51-4068-996E-47464B50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0EF-D0B2-4BDF-A0EA-5CDA8B06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3E6-CE93-4E52-B69B-820D7CD2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46F-197F-4260-AF57-4DEBE507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8B7-B33C-495C-8FBE-A9D68EDC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EBF-CDEA-4253-B7B1-4C6C9E54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A64A7-14B2-4134-9B3E-372462C818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