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712582"/>
        <c:axId val="97628652"/>
      </c:barChart>
      <c:catAx>
        <c:axId val="127125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28652"/>
        <c:crosses val="autoZero"/>
        <c:auto val="1"/>
        <c:lblAlgn val="ctr"/>
        <c:lblOffset val="100"/>
        <c:noMultiLvlLbl val="0"/>
      </c:catAx>
      <c:valAx>
        <c:axId val="976286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125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186C-C2DA-40EB-87E2-ADC7A433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6A2-A901-44BF-BCF5-F28CED7A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B9EB-0E2D-4226-82F5-61A627DE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77E2-B725-478A-A9B6-E7204FCA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D7F-F9D7-4A3E-B6FF-3DDE97C4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2270-CED9-4494-AF6A-C80C67FD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F4A-55F9-4478-8361-41497092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0503-AB59-4921-ACC8-E7580999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8FFC-C5F0-4EAB-9E1E-58A1FBC6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AB64-1C57-470C-96F9-B7DCF605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282-C61F-499B-B4EE-423AD360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6E8-E62B-4809-A916-DA5C365A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44A08-F9D7-4572-8DD7-4FBBD643D2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