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71606"/>
        <c:axId val="81292468"/>
      </c:barChart>
      <c:catAx>
        <c:axId val="81871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92468"/>
        <c:crosses val="autoZero"/>
        <c:auto val="1"/>
        <c:lblAlgn val="ctr"/>
        <c:lblOffset val="100"/>
        <c:noMultiLvlLbl val="0"/>
      </c:catAx>
      <c:valAx>
        <c:axId val="81292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71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129-6A8E-4100-8222-60651B84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381-060A-419E-B697-72116DC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7A8-4A8A-4EBB-BEDC-E940D0CD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23E-D6F6-4735-8206-7B567D2B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C36-6941-41FB-A139-A02639F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78D-994A-4C3A-8F46-15B0BA0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A8D-066A-43B6-86F5-59645F85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ACB-C202-44DD-A707-5051328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9CB-96D8-4AF6-BBCB-AE98FA9C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82D-944F-49C1-9FA1-BAEDA2B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F9F-3B07-440E-9A7D-5B9D3204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B52-AB91-4A15-8092-BCD668F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55279-02AD-49B6-812A-3021D5821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