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029361"/>
        <c:axId val="96557742"/>
      </c:barChart>
      <c:catAx>
        <c:axId val="290293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57742"/>
        <c:crosses val="autoZero"/>
        <c:auto val="1"/>
        <c:lblAlgn val="ctr"/>
        <c:lblOffset val="100"/>
        <c:noMultiLvlLbl val="0"/>
      </c:catAx>
      <c:valAx>
        <c:axId val="965577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293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1ED8-F833-4263-BD2D-17ADE3D67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D678-C941-46D2-AEEF-B45E32C7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8809-B0FB-43E9-8662-370C394DB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D0CA-7E27-4573-BBC9-510014EC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DEEB-51A2-48BB-AEE0-972C3DE2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06C3-3455-4A7A-AC81-C7F5159F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6F23-EA17-4B7E-BBB7-F1B379F2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AB91-016A-4D99-81CC-8BC69E7B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AA98-56B4-4CF8-B0A2-50C45D81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2259-A655-44B4-8B5D-5F4BCA7B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10FE-8CB0-4453-A134-2DF80A8F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9A27-BEEC-4A5C-B9F9-DB988545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61D4D-CFDB-4383-BA73-34189F2AB5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