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90865"/>
        <c:axId val="38333184"/>
      </c:barChart>
      <c:catAx>
        <c:axId val="57090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33184"/>
        <c:crosses val="autoZero"/>
        <c:auto val="1"/>
        <c:lblAlgn val="ctr"/>
        <c:lblOffset val="100"/>
        <c:noMultiLvlLbl val="0"/>
      </c:catAx>
      <c:valAx>
        <c:axId val="38333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90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E7B-4AA3-457E-9AC3-CD1F3343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D70-952A-43E7-A4D6-27D7E7CD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089-FB30-4C58-9818-4835E337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2BA-EB11-46C3-B6E2-780FEC11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3F0-261C-43E4-BBE5-2121E176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5F8-20EB-43A8-94CD-13A5995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424-0662-46B4-B946-335C9C01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4DD-FB34-4D97-B520-6EDAF500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E35-B851-471C-A569-78FD1E10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810-DDF8-44CD-8A2E-2EA60F64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164-1767-4201-9BDA-990581C8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94B-C246-4D07-A2F8-DF0D913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92FA9-2E6F-4E62-920E-20991C891A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