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14340"/>
        <c:axId val="71500985"/>
      </c:barChart>
      <c:catAx>
        <c:axId val="1851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0985"/>
        <c:crosses val="autoZero"/>
        <c:auto val="1"/>
        <c:lblAlgn val="ctr"/>
        <c:lblOffset val="100"/>
        <c:noMultiLvlLbl val="0"/>
      </c:catAx>
      <c:valAx>
        <c:axId val="71500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1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8DF-0ED1-41D7-AA8A-C00C8590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D70-54E7-44BF-8435-C992E2A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777-5A2C-4C31-BE55-D1D201AB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B15-7308-4ECC-9B5C-EACBB2C6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EAE-01E0-42DC-BCC9-C805D9C5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05A-A68C-49CF-8BA3-299E842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FC3-6A27-48E6-B073-BCCE8D2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DF9-6060-46ED-80AB-A6D7B63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CD4-7CD0-470D-BB38-200DF97D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2FB-8C19-4494-83DF-078D5C5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850-C12B-49AA-82D6-B14E304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E8C-884B-4488-8B08-85D25A4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9DB50-4A60-4C96-9785-4D45DB267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