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97821"/>
        <c:axId val="44423415"/>
      </c:barChart>
      <c:catAx>
        <c:axId val="72997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3415"/>
        <c:crosses val="autoZero"/>
        <c:auto val="1"/>
        <c:lblAlgn val="ctr"/>
        <c:lblOffset val="100"/>
        <c:noMultiLvlLbl val="0"/>
      </c:catAx>
      <c:valAx>
        <c:axId val="44423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97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38D-F443-459F-B3D1-2CDB6084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B96-C0B1-4291-B01D-EBF0EA75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EC6-4AF2-4354-91A3-ACEAC3A8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A51-0455-42CE-8BD4-F9DA63BD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394-9FCD-4442-BCEF-12E95EF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DEC-3C29-4F08-BA92-23BA0D66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FF0-EF73-4FE5-8985-DDD39516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68B-7C4A-477A-82DD-3F5ABADD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0CD-EACE-4BC4-BA01-59D0A52C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39F-EA55-4B6A-A989-76E6006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FAB-319E-4A45-A201-8A81AB79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F29-18E4-4F76-A722-DF694DE9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0B30-1C7D-4404-81F0-40AFC337A1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