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691776"/>
        <c:axId val="61750376"/>
      </c:barChart>
      <c:catAx>
        <c:axId val="996917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750376"/>
        <c:crosses val="autoZero"/>
        <c:auto val="1"/>
        <c:lblAlgn val="ctr"/>
        <c:lblOffset val="100"/>
        <c:noMultiLvlLbl val="0"/>
      </c:catAx>
      <c:valAx>
        <c:axId val="617503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6917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C73C-A6BB-43EC-9498-6B0D5D3E8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CBFD-B42E-46B4-803E-94652BDD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434F-A730-419C-AC67-DC2633A7A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522A-2127-4869-A6F9-85329EE9A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9051-6D04-4D04-AEE3-A1B0ABBA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D539-2D19-4286-99A0-AC242B91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11B6-B138-4E80-867C-00629803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581C-B950-46B2-8117-C0CB48A4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080F-CA77-401E-98FE-CFE0E1A8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B338-2A4F-4DF0-8B78-99B95CA7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7944-6D99-4EB8-97CD-E7FE79B6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D6D4-26EB-4C63-BFBA-782BB030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FD8ED-8073-4760-A15B-BCFC2B3FCE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