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358704"/>
        <c:axId val="56389684"/>
      </c:barChart>
      <c:catAx>
        <c:axId val="293587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389684"/>
        <c:crosses val="autoZero"/>
        <c:auto val="1"/>
        <c:lblAlgn val="ctr"/>
        <c:lblOffset val="100"/>
        <c:noMultiLvlLbl val="0"/>
      </c:catAx>
      <c:valAx>
        <c:axId val="563896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3587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E3AA-E387-439C-861E-D3363B425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8CBA-F757-41B0-91A5-2CBC523DC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313B-2D25-469F-BBEC-AA19F1B7D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5725-D4B6-4452-BB50-111085E64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E56E-333C-470C-854A-A5F23460F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F85C-74F6-465B-925D-16553C52B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3179-8678-4E36-843A-DC818383D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027F-119A-4B91-93CB-84825C6F7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ED3B-119A-4417-9B14-F1DEEA042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F9DD-3C2E-44CB-A792-9E717BFE4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7264-3368-4B9C-BD18-147FAE75C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9473-4F09-4B3B-9F3F-7C27CEAC4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102DAD-3364-44C4-B1C7-9C709191797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