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96635"/>
        <c:axId val="28755302"/>
      </c:barChart>
      <c:catAx>
        <c:axId val="82796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55302"/>
        <c:crosses val="autoZero"/>
        <c:auto val="1"/>
        <c:lblAlgn val="ctr"/>
        <c:lblOffset val="100"/>
        <c:noMultiLvlLbl val="0"/>
      </c:catAx>
      <c:valAx>
        <c:axId val="28755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96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D12-C1CC-4398-BB25-6460F851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7F4-8204-4F53-B3A6-D3C45351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FD8-AE9D-48CC-AFE5-8D97C2AF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791-AB07-471A-A47F-4506899B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8F9-C4F2-4A3F-AFDE-DD4FB58C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E1A-1225-4CD8-ADAD-02056327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BC6-4553-413E-BC06-CDCA0928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CE0-17BB-448C-A214-6B5679E4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F2B-ECD7-463D-9976-E68D0BE5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13C-4168-4AF2-A6F8-EB94EEB0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8BE-EAD6-40BF-B6EF-A94B03AC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3C0-F7AF-4A40-8588-5103FD0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82FC5-FBBA-4C3D-A3A0-FD217E97BB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